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C26B-0219-4510-AA8B-5D0BBF5B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78B-D518-414D-92A2-F7515758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1A8E-AC35-49D6-90C2-507AB2B2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CDF9-AB1D-4B45-9A27-E165AFD1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38E1-0C6B-45A4-9ED6-130A8902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38FE-80A6-4AE1-B69B-80788EE6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F5C4-743F-4E48-9943-885E59C5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B7DE-4B9F-4329-821D-42C6C1BF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8271-929C-415D-AD95-A7F6CAD3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21A9-AFEE-4BEF-9444-0D073F76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76FD-D4E3-4CE5-B03D-353DAB4F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1D5-1BA2-447C-BC58-43B52F26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4D28-5DF5-4CAC-A049-9E785143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95C1-DEA5-4184-8D5C-05EFF865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BE6B-0CA8-4C91-8A95-50DB5859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DC5F-1C0B-4DA5-BD0B-186696AE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D1D8-AB50-405F-AC62-3ADA57E2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314E-C94E-4993-9B01-A6B18900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B8E-C1D4-485F-BDD8-3EF72434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0DE-2D17-4AFC-8F51-26980D91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9C02-6C77-46A1-8CA1-B9317F68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231-5982-46EF-A217-79AD4420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DBFE-3542-432D-A42C-1B4882A0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C4E8-A456-458B-8CE1-023E26D0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E8F6-BF11-422F-8838-583BCAA0FBE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ED56-2144-49F5-B68A-14ADD62AA64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Bullying</a:t>
            </a:r>
            <a:br>
              <a:rPr sz="4000"/>
            </a:b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ero Toler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llying is when one or more children (bully/bullies) target a single person (victim) and use behavior that has the intention to hurt that chil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 of Bully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cal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as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shing or shov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reading rumors or gossi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noring someone to make them feel left 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2286000" cy="2666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rning Signs of Being Bull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fusal to go to school or take b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laints of illn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eating lun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y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op in Gra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lping Others Who Are Being Bull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p the person get out of the situ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fer to walk with the victi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lk with teachers, counselors, par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ild each other’s self-este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pt people’s dif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 immediately if you see a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haracteristics of Children who Bul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sily frustra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iculty following r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ew violence in a positive 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23623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llies are real people with real problems such 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elings of not fitting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at ho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ing bullied by parents, siblings or ot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ar of being picked 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nting to seem tough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elings of anger,  &amp; low self-wor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ake the Anti-Bullying Pledge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15:21:16Z</dcterms:created>
  <dc:creator>jwhalen</dc:creator>
  <dc:description/>
  <dc:language>en-US</dc:language>
  <cp:lastModifiedBy>North Rockland Schools</cp:lastModifiedBy>
  <dcterms:modified xsi:type="dcterms:W3CDTF">2008-09-26T13:09:12Z</dcterms:modified>
  <cp:revision>19</cp:revision>
  <dc:subject/>
  <dc:title>  Bullying </dc:title>
</cp:coreProperties>
</file>